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AA29-8C8E-451B-97FF-EF90F4999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3E9D-56CE-4079-BCBE-5208F7E5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04DF-3EEA-44FA-ADB3-F44E0E04E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0FBF-870B-47B9-8931-B4B94FAE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ACF8-BB84-4E2A-BF33-906EE47D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FA47-011E-4113-A1C0-C0447E96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0A77-1CBB-48FB-A8E3-C431BD3C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5375-8545-4757-B3A9-BA340145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D959-22CE-4C15-8681-0CE0EAA4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B2A7-A2A0-433A-B686-D1EAFE94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E490-B9D1-40A0-9DCE-F7CF47D4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FC1A-385B-4534-BCB8-34C37CDF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2F00-0113-4417-8BBE-36F6841FFF6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199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3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1"/>
          <p:cNvSpPr/>
          <p:nvPr/>
        </p:nvSpPr>
        <p:spPr>
          <a:xfrm>
            <a:off x="457200" y="12193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d469b"/>
                </a:solidFill>
                <a:latin typeface="Candara"/>
              </a:rPr>
              <a:t>Open Ques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http://thenjournal.org/feature/80/math_cartoon.jpg"/>
          <p:cNvPicPr/>
          <p:nvPr/>
        </p:nvPicPr>
        <p:blipFill>
          <a:blip r:embed="rId1"/>
          <a:stretch/>
        </p:blipFill>
        <p:spPr>
          <a:xfrm>
            <a:off x="5791320" y="2209680"/>
            <a:ext cx="314460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ocused Conversations – Part II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Yesterday you practiced holding focused conversations related to the parallel tasks you cr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oday you are going to have an opportunity to practice these again with the open questions you creat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ut with a twist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n groups of 3 and assign the following ro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Diagram 3" descr=""/>
          <p:cNvPicPr/>
          <p:nvPr/>
        </p:nvPicPr>
        <p:blipFill>
          <a:blip r:embed="rId1"/>
          <a:stretch/>
        </p:blipFill>
        <p:spPr>
          <a:xfrm>
            <a:off x="469800" y="2419200"/>
            <a:ext cx="8236080" cy="247680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533520" y="52578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e roles to the right until each person has had a chance to play each ro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Arial"/>
              </a:rPr>
              <a:t>Discuss with your group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2209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types of questions seem more difficult to work into the focussed conversation?  (Refer to the data you collected when you were an observer.)  How could you ensure a balance of question typ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ow do you think focussed conversations could be useful with your colleagues at scho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3200400"/>
          </a:xfrm>
          <a:prstGeom prst="rect">
            <a:avLst/>
          </a:prstGeom>
          <a:solidFill>
            <a:srgbClr val="e70308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ore on coaching? </a:t>
            </a:r>
            <a:br>
              <a:rPr sz="4400"/>
            </a:b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 Simeral and hall?</a:t>
            </a:r>
            <a:br>
              <a:rPr sz="4400"/>
            </a:b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Need something here.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tters from Camppp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904760"/>
            <a:ext cx="8229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take a moment to complete the exit card and leave it with us before you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http://stuckattheairport.com/wp-content/uploads/2009/03/exit-sign.jpg"/>
          <p:cNvPicPr/>
          <p:nvPr/>
        </p:nvPicPr>
        <p:blipFill>
          <a:blip r:embed="rId1"/>
          <a:stretch/>
        </p:blipFill>
        <p:spPr>
          <a:xfrm>
            <a:off x="6019920" y="426708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nderstand how open tasks allow access to the mathematics for all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ke sense of the process for creating open tasks/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actice creating open tasks and determining where they fit with the MATCH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actice anticipating difficulties to create scaffolding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actice focussed conversations with critical 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ry an Open Tas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rley’s task….2 tables of dat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Open Question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ke a question op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might you want to use an open ques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benefits are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? Action? Consolidat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904760"/>
            <a:ext cx="8229600" cy="1447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learning goal w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rley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457200" y="3505320"/>
            <a:ext cx="8229600" cy="1447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 big idea w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rley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457200" y="5105520"/>
            <a:ext cx="8229600" cy="14475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would you put this open question in the lesson?  Minds on? Action? Consolidate? 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hat if…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904760"/>
            <a:ext cx="8229600" cy="1447560"/>
          </a:xfrm>
          <a:prstGeom prst="rect">
            <a:avLst/>
          </a:prstGeom>
          <a:solidFill>
            <a:srgbClr val="e7030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hanged the learning goal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r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tent Placeholder 2"/>
          <p:cNvSpPr/>
          <p:nvPr/>
        </p:nvSpPr>
        <p:spPr>
          <a:xfrm>
            <a:off x="457200" y="4343400"/>
            <a:ext cx="8229600" cy="152388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would you put this open question now?  Minds on? Action? Consolidate? 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Failsafe Strategie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with the answer. Ask for the question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 example, the sum of two fractions is .What might the fractions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 for similarities and differences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 example, how are y = 3x and y = 2x alike? How are they differ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ve certain information out of the problem, e.g. omit numbers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 example, two right triangles are similar. One has two side lengths of 4 and 6. The other has one side length of 12. What lengths could the other three sides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several numbers and math words; the student must create a sentence using all the numbers and words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 example, create a sentence that uses the words and numbers 40, 5, ratio, sc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“soft” language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 example, two ratios are “almost but not quite” equivalent. What might they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Your tur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05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one of the “text” questions provided and use it to create an open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3733920" y="3429000"/>
            <a:ext cx="4647960" cy="642600"/>
          </a:xfrm>
          <a:prstGeom prst="rect">
            <a:avLst/>
          </a:prstGeom>
          <a:solidFill>
            <a:srgbClr val="e7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Questions – K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4"/>
          <p:cNvSpPr/>
          <p:nvPr/>
        </p:nvSpPr>
        <p:spPr>
          <a:xfrm>
            <a:off x="4495680" y="4800600"/>
            <a:ext cx="4191120" cy="13716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PPQT template that you worked on yesterday, or create a new one if you pref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open task for one part of the templat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about possible scaffolding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0T18:21:17Z</dcterms:created>
  <dc:creator>Liisa Suurtamm</dc:creator>
  <dc:description/>
  <dc:language>en-US</dc:language>
  <cp:lastModifiedBy>Liisa Suurtamm</cp:lastModifiedBy>
  <dcterms:modified xsi:type="dcterms:W3CDTF">2010-08-10T22:05:19Z</dcterms:modified>
  <cp:revision>14</cp:revision>
  <dc:subject/>
  <dc:title>Slide 1</dc:title>
</cp:coreProperties>
</file>